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D5F-56D6-4851-84BE-7BEBB06C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B02-3471-4EFE-AF15-3400360A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1A0-F819-4B42-959D-8AF65679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8AA-D8A0-4EEC-97F2-B9A723C6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7412-08C7-49FE-84BB-4B0AC3F2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068E-83D0-4DBB-ACAF-33A301FA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93DF-F12E-46DF-9FB6-6E04FAC0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4562-035E-49ED-8891-7AC6707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4622-FC7D-4F17-84FA-35027FF0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42B8-ECD5-4092-B100-2F010502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3C5F-0945-49E1-B2A6-3D5FC18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72F-60B7-45A6-9373-C0A6A3F0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7032-EA46-4AB7-9F2F-A87E3CC0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B240-9349-437E-8280-F65FD35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A149-3F3E-44C8-AD21-F4766EEA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CB54-A5EE-4425-9655-D6D45938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AB1-D168-472A-9903-CB006147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E79-0375-4BC9-9B1C-D881BFF7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929-D05D-4B73-B341-6BF52D33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6D9-3595-45B1-BC04-088EF8D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ADF-B8FE-4EEC-85BE-EBF872B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E05-06A6-4CAD-9E52-8083337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B25-B634-4655-AE96-E20D9B8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873-ED34-4246-837F-01ADCC0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8E8F-57BE-4BF7-AA29-E714E2B6FA24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خميس 30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AB55-7FAB-41F3-85E8-AB4FB3701B6C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2DEC-66F0-4EF2-8B11-7B96F5555DED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خميس 30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9A2-CEC4-47E7-889B-7BCC6A234A48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CF28-3CAA-41B4-A513-37EBB60B7E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5602AD6-D545-4707-8B88-ED995E8C054B}" type="datetime3">
              <a:rPr lang="en-US"/>
              <a:t>July 30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54A-AE09-41D1-B895-103AD33395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A5ADF-570F-4EDE-8E91-C873B8C28B0B}" type="datetime3">
              <a:rPr lang="en-US"/>
              <a:t>July 30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2B6-B74A-4F55-BB96-455E1AAB2D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7B3E6-4A58-41FF-A521-24DDA69503EE}" type="datetime3">
              <a:rPr lang="en-US"/>
              <a:t>July 30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943-2335-42EB-8030-549B8D51C4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D178D-EFE5-4DCC-A833-026AF2AF7462}" type="datetime3">
              <a:rPr lang="en-US"/>
              <a:t>July 30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FF0-03E7-4F3C-AF91-C5ECAEB486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E9AE4-D120-4453-A411-9268B3998329}" type="datetime3">
              <a:rPr lang="en-US"/>
              <a:t>July 30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C6E-39F7-4D38-AAC1-4133F0BDA4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94958-8B84-4255-9367-3F152135B381}" type="datetime3">
              <a:rPr lang="en-US"/>
              <a:t>July 30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54A-FD17-494D-9566-F398E888C5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54B1E-8635-4A8E-9ABB-3FC661F7B318}" type="datetime3">
              <a:rPr lang="en-US"/>
              <a:t>July 30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A85-D0A9-438E-8FEE-4CDCACF6847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D9B6F-29FB-4A0B-8CAC-E8930FDD9982}" type="datetime3">
              <a:rPr lang="en-US"/>
              <a:t>July 30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